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4.xml.rels" ContentType="application/vnd.openxmlformats-package.relationships+xml"/>
  <Override PartName="/ppt/notesSlides/notesSlide63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28.jpeg" ContentType="image/jpeg"/>
  <Override PartName="/ppt/media/image13.png" ContentType="image/png"/>
  <Override PartName="/ppt/media/image12.jpeg" ContentType="image/jpeg"/>
  <Override PartName="/ppt/media/image34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8758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87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38040" y="655200"/>
            <a:ext cx="4383000" cy="328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3196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3196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9B8A-6A13-48D4-A463-3C036DE23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1: How should we draw the line between normality and disord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2: What perspectives can help us understand psychological disorde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3: How and why do clinicians classify psychological disorde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4: Why do some psychologists criticize the use of diagnostic labe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5: What are anxiety disorders, and how do they differ from ordinary worries and fear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6: What produces the thoughts and feelings that mark anxiety disorde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review Question 7: What are somatoform disorde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8: What are dissociative disorders, and why are they controversial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9: What are mood disorders, and what forms do they ta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10: What causes mood disorders, and what might explain the Western world’s rising incidence of depression among youth and young adul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11: What patterns of thinking, perceiving, feeling, and behaving characterize schizophrenia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12: What causes schizophrenia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13: What characteristics are typical of personality disorde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14: How many people suffer, or have suffered, from a psychological disord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8382-CCFF-4184-83E9-593C5A2B2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EFA0-F862-4047-839C-DCD21F9B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79CA-304E-4F8E-9793-8FC8C9866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10F4-1C28-4DC6-9E2F-1A0CA672D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F6E7-E64F-4168-84FE-F4A3737A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0F50-E18D-4926-99D7-A3F403A5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21FF-3A1A-4982-AFB1-08018331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9203-A397-4269-BC12-D33ABC82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046E-67FA-4A6C-9365-A75FDAA0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EBF8-B4BF-4C26-A133-91D5C781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24EC-F1F5-448E-9BB1-9C36769D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F334-DFC4-4085-AB2F-BC881E48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3D33-7F09-4FE6-8CA5-ED1F44CFC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hsu.edu/dept/dap/StyleGuide/Images/c_oval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6720" y="1999800"/>
            <a:ext cx="7772400" cy="16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Palatino Linotype"/>
              </a:rPr>
              <a:t>PSYCHOLOGY</a:t>
            </a:r>
            <a:br>
              <a:rPr sz="4800"/>
            </a:b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(9th Edition)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David M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44880" y="4114800"/>
            <a:ext cx="48276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PowerPoint Slid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Aneeq Ahm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Henderson State Univers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Worth Publishers, ©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29000" y="5315040"/>
            <a:ext cx="484200" cy="55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4535-D6D8-4AFF-9360-FBDB7DA4E33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Defining Psychological Dis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ental health workers view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psychological disorder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as persistently harmful thoughts, feelings, and 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1400" y="35053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hen behavior is </a:t>
            </a:r>
            <a:r>
              <a:rPr b="0" i="1" lang="en-US" sz="2800" spc="-1" strike="noStrike">
                <a:solidFill>
                  <a:srgbClr val="0000ff"/>
                </a:solidFill>
                <a:latin typeface="Palatino Linotype"/>
              </a:rPr>
              <a:t>deviant, distressful, and dysfunctional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psychiatrists and psychologists label it as disordered (Comer, 2004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AD57-9E67-479C-81F2-5B5C155AC84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Deviant, Distressful &amp; Dysfunct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Palatino Linotype"/>
              </a:rPr>
              <a:t>Deviant</a:t>
            </a: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 behavior (going naked) in one culture may be considered normal, while in others it may lead to arres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Deviant behavior must accompany </a:t>
            </a:r>
            <a:r>
              <a:rPr b="0" lang="en-US" sz="2600" spc="-1" strike="noStrike">
                <a:solidFill>
                  <a:srgbClr val="0000ff"/>
                </a:solidFill>
                <a:latin typeface="Palatino Linotype"/>
              </a:rPr>
              <a:t>distress</a:t>
            </a: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If a behavior is </a:t>
            </a:r>
            <a:r>
              <a:rPr b="0" lang="en-US" sz="2600" spc="-1" strike="noStrike">
                <a:solidFill>
                  <a:srgbClr val="0000ff"/>
                </a:solidFill>
                <a:latin typeface="Palatino Linotype"/>
              </a:rPr>
              <a:t>dysfunctional</a:t>
            </a: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 it is clearly a disord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876920" y="1582560"/>
            <a:ext cx="3809880" cy="3141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013360" y="4765680"/>
            <a:ext cx="3444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In the Wodaabe tribe men wear costumes to attract women. In Western society this would be considered abnorm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8317080" y="414936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rol Beckwi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3A32-AA7B-4C97-86D0-E789CDC498D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Understanding Psychological Dis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1600" y="16765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Ancient Treatments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of psychological disorders include trephination, exorcism, being caged like animals, being beaten, burned, castrated, mutilated, or transfused with animal’s bl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513240" y="3505320"/>
            <a:ext cx="2111400" cy="2666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79400" y="6248520"/>
            <a:ext cx="75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rephination (boring holes in the skull to remove evil for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5400000">
            <a:off x="5361840" y="4524840"/>
            <a:ext cx="101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ohn W. Vera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3FEE-35CD-4FA8-B98B-CD3E36DB0FA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The Medic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18760" y="1600200"/>
            <a:ext cx="8077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hilippe Pinel (1745-1826) from France, insisted that madness was not due to demonic possession, but an ailment of the m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71840" y="3048120"/>
            <a:ext cx="3976560" cy="3112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015000" y="6248520"/>
            <a:ext cx="30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Dance in the madhou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5131080" y="4648320"/>
            <a:ext cx="3029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George Wesley Bellows, </a:t>
            </a:r>
            <a:r>
              <a:rPr b="0" i="1" lang="en-US" sz="600" spc="-1" strike="noStrike">
                <a:solidFill>
                  <a:srgbClr val="000000"/>
                </a:solidFill>
                <a:latin typeface="Times New Roman"/>
              </a:rPr>
              <a:t>Dancer in a Madhouse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, 1907. © 1997 The Art Institute of Chicag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9F78-A25F-4064-9030-787CBAF721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Medic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hen physicians discovered that syphilis led to mental disorders, they started using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medical model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to review the physical causes of these disor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61920" y="3429000"/>
            <a:ext cx="71773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Etiology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Cause and development of the dis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Diagnosis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Identifying (symptoms) and distinguishing one disease from an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Treatment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Treating a disorder in a psychiatric hospi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Prognosis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Forecast about the dis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EAC4-22A7-4D61-A6D1-A0D91FD488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The Biopsychosocial Approa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ssumes that biological, socio-cultural, and psychological factors combine and interact to produce psychological disor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905120" y="3124080"/>
            <a:ext cx="5562360" cy="361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83B2-64C1-4815-BE32-D0D1DE9E83F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lassifying Psychological Dis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American Psychiatric Association rendered a Diagnostic and Statistical Manual of Mental Disorders (DSM) to describe psychological disor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1400" y="38862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most recent edition, DSM-IV-TR (Text Revision, 2000), describes 400 psychological disorders compared to 60 in the 1950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25FA-5BB9-4097-AE05-DAD4FBC355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Multiaxial Class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00320" y="4367160"/>
            <a:ext cx="6410160" cy="820800"/>
          </a:xfrm>
          <a:prstGeom prst="rect">
            <a:avLst/>
          </a:prstGeom>
          <a:solidFill>
            <a:srgbClr val="ffe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re </a:t>
            </a:r>
            <a:r>
              <a:rPr b="0" i="1" lang="en-US" sz="2400" spc="-1" strike="noStrike">
                <a:solidFill>
                  <a:srgbClr val="0000ff"/>
                </a:solidFill>
                <a:latin typeface="Palatino Linotype"/>
              </a:rPr>
              <a:t>Psychosocial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or </a:t>
            </a:r>
            <a:r>
              <a:rPr b="0" i="1" lang="en-US" sz="2400" spc="-1" strike="noStrike">
                <a:solidFill>
                  <a:srgbClr val="0000ff"/>
                </a:solidFill>
                <a:latin typeface="Palatino Linotype"/>
              </a:rPr>
              <a:t>Environmental Problems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(school or housing issues) also pres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4367160"/>
            <a:ext cx="1371600" cy="820800"/>
          </a:xfrm>
          <a:prstGeom prst="rect">
            <a:avLst/>
          </a:prstGeom>
          <a:solidFill>
            <a:srgbClr val="ffe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xis 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0320" y="5264280"/>
            <a:ext cx="6410160" cy="984240"/>
          </a:xfrm>
          <a:prstGeom prst="rect">
            <a:avLst/>
          </a:prstGeom>
          <a:solidFill>
            <a:srgbClr val="ffe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What is the </a:t>
            </a:r>
            <a:r>
              <a:rPr b="0" i="1" lang="en-US" sz="2400" spc="-1" strike="noStrike">
                <a:solidFill>
                  <a:srgbClr val="0000ff"/>
                </a:solidFill>
                <a:latin typeface="Palatino Linotype"/>
              </a:rPr>
              <a:t>Global Assessment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of the person’s 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5264280"/>
            <a:ext cx="1371600" cy="984240"/>
          </a:xfrm>
          <a:prstGeom prst="rect">
            <a:avLst/>
          </a:prstGeom>
          <a:solidFill>
            <a:srgbClr val="ffe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xis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00320" y="3422520"/>
            <a:ext cx="6410160" cy="868320"/>
          </a:xfrm>
          <a:prstGeom prst="rect">
            <a:avLst/>
          </a:prstGeom>
          <a:solidFill>
            <a:srgbClr val="ffe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Is a </a:t>
            </a:r>
            <a:r>
              <a:rPr b="0" i="1" lang="en-US" sz="2400" spc="-1" strike="noStrike">
                <a:solidFill>
                  <a:srgbClr val="0000ff"/>
                </a:solidFill>
                <a:latin typeface="Palatino Linotype"/>
              </a:rPr>
              <a:t>General Medical Condition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(diabetes, hypertension or arthritis etc) also pres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3422520"/>
            <a:ext cx="1371600" cy="868320"/>
          </a:xfrm>
          <a:prstGeom prst="rect">
            <a:avLst/>
          </a:prstGeom>
          <a:solidFill>
            <a:srgbClr val="ffe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xis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00320" y="2514600"/>
            <a:ext cx="6410160" cy="820800"/>
          </a:xfrm>
          <a:prstGeom prst="rect">
            <a:avLst/>
          </a:prstGeom>
          <a:solidFill>
            <a:srgbClr val="ffe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Is a </a:t>
            </a:r>
            <a:r>
              <a:rPr b="0" i="1" lang="en-US" sz="2400" spc="-1" strike="noStrike">
                <a:solidFill>
                  <a:srgbClr val="0000ff"/>
                </a:solidFill>
                <a:latin typeface="Palatino Linotype"/>
              </a:rPr>
              <a:t>Personality Disorder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or </a:t>
            </a:r>
            <a:r>
              <a:rPr b="0" i="1" lang="en-US" sz="2400" spc="-1" strike="noStrike">
                <a:solidFill>
                  <a:srgbClr val="0000ff"/>
                </a:solidFill>
                <a:latin typeface="Palatino Linotype"/>
              </a:rPr>
              <a:t>Mental Retardation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pres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2514600"/>
            <a:ext cx="1371600" cy="820800"/>
          </a:xfrm>
          <a:prstGeom prst="rect">
            <a:avLst/>
          </a:prstGeom>
          <a:solidFill>
            <a:srgbClr val="ffe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xis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00320" y="1617840"/>
            <a:ext cx="6410160" cy="820440"/>
          </a:xfrm>
          <a:prstGeom prst="rect">
            <a:avLst/>
          </a:prstGeom>
          <a:solidFill>
            <a:srgbClr val="ffe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Is a </a:t>
            </a:r>
            <a:r>
              <a:rPr b="0" i="1" lang="en-US" sz="2400" spc="-1" strike="noStrike">
                <a:solidFill>
                  <a:srgbClr val="0000ff"/>
                </a:solidFill>
                <a:latin typeface="Palatino Linotype"/>
              </a:rPr>
              <a:t>Clinical Syndrome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(cognitive, anxiety, mood disorders [16 syndromes]) pres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1617840"/>
            <a:ext cx="1371600" cy="820440"/>
          </a:xfrm>
          <a:prstGeom prst="rect">
            <a:avLst/>
          </a:prstGeom>
          <a:solidFill>
            <a:srgbClr val="ffe1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xis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9120" y="1566720"/>
            <a:ext cx="1681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9120" y="5881680"/>
            <a:ext cx="1681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9120" y="1566720"/>
            <a:ext cx="0" cy="820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610480" y="1566720"/>
            <a:ext cx="0" cy="820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0320" y="1566720"/>
            <a:ext cx="6410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9120" y="2387520"/>
            <a:ext cx="0" cy="820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610480" y="2387520"/>
            <a:ext cx="0" cy="820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9120" y="3208320"/>
            <a:ext cx="0" cy="868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610480" y="3208320"/>
            <a:ext cx="0" cy="868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9120" y="4076640"/>
            <a:ext cx="0" cy="820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610480" y="4076640"/>
            <a:ext cx="0" cy="820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9120" y="4897440"/>
            <a:ext cx="0" cy="984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610480" y="4897440"/>
            <a:ext cx="0" cy="984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00320" y="5881680"/>
            <a:ext cx="6410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C7C9-D5C6-4BF3-9F7B-F36E8A00B25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Multiaxial Class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71400" y="1986120"/>
            <a:ext cx="7772400" cy="4338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886040" y="1447920"/>
            <a:ext cx="53481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414360" indent="-414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Note 16 syndromes in Axi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3F49-99A7-4C62-BC23-40EED37BA1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Multiaxial Class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71400" y="2133720"/>
            <a:ext cx="7769160" cy="3728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009800" y="1447920"/>
            <a:ext cx="710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Note Global Assessment for Axis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48AD-B5A7-423E-843B-427FD632BF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5800" y="2681280"/>
            <a:ext cx="7682040" cy="31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Palatino Linotype"/>
              </a:rPr>
              <a:t>Psychological Disorders</a:t>
            </a:r>
            <a:br>
              <a:rPr sz="5400"/>
            </a:br>
            <a:br>
              <a:rPr sz="5400"/>
            </a:br>
            <a:r>
              <a:rPr b="0" lang="en-US" sz="3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Chapter 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320" y="76320"/>
            <a:ext cx="2641320" cy="289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36B0-2290-47DF-8EBB-0BD104AC70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Goals of D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47440" y="1600200"/>
            <a:ext cx="5638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Describe (400) disor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Determine how prevalent the disorder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1400" y="289548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isorders outlined by DSM-IV are reliable. Therefore, diagnoses by different professionals are simi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1400" y="468648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Others criticize DSM-IV for “putting any kind of behavior within the compass of psychiatry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7288-01DA-46FA-9215-A9FA9BBE68F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Labeling Psychological Dis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ritics of the DSM-IV argue that labels may stigmatize individu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305080" y="2743200"/>
            <a:ext cx="4495680" cy="3549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526120" y="6284880"/>
            <a:ext cx="40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Asylum baseball team (label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5399280" y="4670640"/>
            <a:ext cx="31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izabeth Eckert, Middletown, NY. From L. Gamwell and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. Tomes,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Madness in America,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995. Cornell University Pres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D2A6-30E2-4F90-8906-550301E163B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Labeling Psychological Dis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Labels may be helpful for healthcare professionals when communicating with one another and establishing therap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C7CD-BD54-49BD-98AE-C66F9FCF844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Labeling Psychological Dis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86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“Insanity” labels raise moral and ethical questions about how society should treat people who have disorders and have committed cri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029200" y="1600200"/>
            <a:ext cx="3675240" cy="43718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591520" y="5972040"/>
            <a:ext cx="26326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heodore Kaczyns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(Unabombe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8004960" y="5029200"/>
            <a:ext cx="164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laine Thompson/ AP Pho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48F6-48D4-4D4E-BEA2-203D4D5154C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1400" y="26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Anxiety Disor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eelings of excessive apprehension and anxie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2971800"/>
            <a:ext cx="5943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481320" indent="-48132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Generalized anxiety dis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1320" indent="-48132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anic dis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1320" indent="-48132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hob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1320" indent="-48132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Obsessive-compulsive dis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1320" indent="-48132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ost-traumatic stress dis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C6C3-0D10-4DF2-B980-D2776E15BD3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Generalized Anxiety Disor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71400" y="2590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ersistent and uncontrollable tenseness and apprehen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1400" y="3581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utonomic arous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1400" y="4114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ability to identify or avoid the cause of certain feel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59320" y="1866960"/>
            <a:ext cx="1995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EBDD-4B00-4F2F-B7BA-2AA29FE30B4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anic Disor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71400" y="2590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inutes-long episodes of intense dread which may include feelings of terror, chest pains, choking, or other frightening sens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1400" y="44956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nxiety is a component of both disorders. It occurs more in the panic disorder, making people avoid situations that cause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59320" y="1866960"/>
            <a:ext cx="1995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59ED-8D9D-40EB-B28E-85F9E203BEE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hobi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1600" y="159984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arked by a persistent and irrational fear of an object or situation that disrupts behav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95440" y="2971800"/>
            <a:ext cx="7924680" cy="295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5CD2-A37B-48DE-989E-DEDCE3096F4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Kinds of Phobi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33720" y="4572000"/>
            <a:ext cx="4295880" cy="838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hobia of bl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1920" y="4572000"/>
            <a:ext cx="2833920" cy="838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46800" anchor="ctr">
            <a:norm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emopho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33720" y="3581280"/>
            <a:ext cx="4295880" cy="8384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 fontScale="93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hobia of closed spa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61920" y="3581280"/>
            <a:ext cx="2833920" cy="8384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46800" anchor="ctr">
            <a:normAutofit fontScale="93000"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laustropho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33720" y="2590920"/>
            <a:ext cx="4295880" cy="838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hobia of heigh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61920" y="2590920"/>
            <a:ext cx="2833920" cy="838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46800" anchor="ctr">
            <a:norm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cropho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33720" y="1600200"/>
            <a:ext cx="4295880" cy="838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hobia of open pla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61920" y="1600200"/>
            <a:ext cx="2833920" cy="838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46800" anchor="ctr">
            <a:norm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gorapho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1400" y="1981080"/>
            <a:ext cx="2833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1400" y="5334120"/>
            <a:ext cx="2833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1400" y="1981080"/>
            <a:ext cx="0" cy="838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458200" y="1981080"/>
            <a:ext cx="0" cy="838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1981080"/>
            <a:ext cx="4952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1400" y="2819520"/>
            <a:ext cx="0" cy="838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458200" y="2819520"/>
            <a:ext cx="0" cy="838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1400" y="3657600"/>
            <a:ext cx="0" cy="838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458200" y="3657600"/>
            <a:ext cx="0" cy="838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1400" y="4495680"/>
            <a:ext cx="0" cy="838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458200" y="4495680"/>
            <a:ext cx="0" cy="838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05320" y="5334120"/>
            <a:ext cx="4952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6E35-EA5D-4CE7-AD58-BE54FAC167D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Obsessive-Compulsive Disor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ersistence of unwanted thoughts (obsessions) and urges to engage in senseless rituals (compulsions) that cause distr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838080" y="3200400"/>
            <a:ext cx="7620120" cy="321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4E5E-6C29-4396-B0AC-4BD5BE9E729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sychological Disor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80880" y="1595160"/>
            <a:ext cx="656244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Perspectives on Psychological Dis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efining Psychological Dis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Understanding Psychological Dis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lassifying Psychological Dis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Labeling Psychological Dis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C486-E8F4-4445-A21D-8A0398245C48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80880" y="1585440"/>
            <a:ext cx="4191120" cy="33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PET scan of the brain of a person with Obsessive-Compulsive Disorder (OCD). High metabolic activity (red) in the frontal lobe areas are involved with directing atten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014800" y="1585800"/>
            <a:ext cx="3721320" cy="43228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6714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Brain Imag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45280" y="5924520"/>
            <a:ext cx="29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Brain image of an O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D68B-020A-4EA6-A866-F5186FD4372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Post-Traumatic Stress Disor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our or more weeks of the following symptoms constitute post-traumatic stress disorder (PTSD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3276720"/>
            <a:ext cx="4267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aunting mem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3809880"/>
            <a:ext cx="2971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Nightm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3880" y="4329000"/>
            <a:ext cx="3948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ocial withdraw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9200" y="4876920"/>
            <a:ext cx="3267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Jumpy anxi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5486400"/>
            <a:ext cx="381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leep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876920" y="3048120"/>
            <a:ext cx="3809880" cy="31147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 rot="5400000">
            <a:off x="8267760" y="5498280"/>
            <a:ext cx="108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ettmann/ Corb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DEE4-3F25-40B7-8E4C-AB974D9A752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Resilience to PTS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Only about 10% of women and 20% of men react to traumatic situations and develop PTS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1400" y="3124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olocaust survivors show remarkable resilience against traumatic situat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45720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ll major religions of the world suggest that surviving a trauma leads to the growth of an individ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DEF4-36C0-4CFD-A373-E47F2E902B2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Explaining Anxiety Disor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140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reud suggested that we repress our painful and intolerable ideas, feelings, and thoughts, resulting in anxie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95C9-E398-433F-9503-A9443632705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The Learning Persp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1400" y="1600200"/>
            <a:ext cx="390060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Learning theorists suggest that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fear conditioning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leads to anxiety. This anxiety then becomes associated with other objects or events (stimulus generalization) and is reinfor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386320" y="1600200"/>
            <a:ext cx="3057480" cy="4572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 rot="5400000">
            <a:off x="7775640" y="5260320"/>
            <a:ext cx="157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ohn Coletti/ Stock, Bos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BA20-F43F-4E7C-937A-2AE53527389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The Learning Persp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1600200"/>
            <a:ext cx="78343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vestigators believe that fear responses are inculcated through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observational learning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. Young monkeys develop fear when they watch other monkeys who are afraid of snak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808D-A9EB-493A-9694-61E6F27194C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The Biological Persp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1600200"/>
            <a:ext cx="78343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Natural Selection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has led our ancestors to learn to fear snakes, spiders, and other animals. Therefore, fear preserves the spec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3962520"/>
            <a:ext cx="78343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win studies suggest that our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gene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may be partly responsible for developing fears and anxiety. Twins are more likely to share   phob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6117-A8E7-4C5D-A755-3E759D0FA28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The Biological Persp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39006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Generalized anxiety, panic attacks, and even OCD are linked with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brain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circuits like the 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anterior cingulate cort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800600" y="1625760"/>
            <a:ext cx="4013280" cy="34034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174640" y="5051520"/>
            <a:ext cx="329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Anterior Cingulate Cort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of an OCD pati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5400000">
            <a:off x="7040880" y="3165120"/>
            <a:ext cx="384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. Ursu, V.A. Stenger, M.K. Shear, M.R. Jones, &amp; C.S. Carter (2003). Overactive ac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onitoring in obsessive-compulsive disorder.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Psychological Science, 14,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347-35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9120-5B86-4DC5-9083-43661C84D6A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Dissociative Disor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onscious awareness becomes separated (dissociated) from previous memories, thoughts, and feel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73360" y="3505320"/>
            <a:ext cx="1995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47920" y="4152960"/>
            <a:ext cx="6248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aving a sense of being unr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47920" y="4686480"/>
            <a:ext cx="6248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eing separated from the 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61960" y="5205240"/>
            <a:ext cx="6981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atching yourself as if in a mov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90C9-FF07-4A70-BB51-768293226042}" type="slidenum">
              <a:t>38</a:t>
            </a:fld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Dissociative Identity Disorder (DI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disorder in which a person exhibits two or more distinct and alternating personalities, formerly called multiple personality dis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500200" y="3246480"/>
            <a:ext cx="4114800" cy="29257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196800" y="6194520"/>
            <a:ext cx="27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Chris Sizemore (D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400000">
            <a:off x="5850000" y="5182920"/>
            <a:ext cx="1771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is Bernstein/ Gamma Lia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563A-8E7D-4459-B335-CF0377EB74F1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280880" y="1143000"/>
            <a:ext cx="68720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Anxiety Dis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Generalized Anxiety Dis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anic Dis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hob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Obsessive-Compulsive Dis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ost-Traumatic Stress Dis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Understanding Anxiety Disord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Somatoform Dis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676B-D721-4481-83C7-3C5EFA653710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DID Cri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ritics argue that the diagnosis of DID increased in the late 2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Palatino Linotype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 century. DID has not been found in other cou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85960" y="3505320"/>
            <a:ext cx="3741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ritics’ Arg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4152960"/>
            <a:ext cx="69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Role-playing by people open to a therapist’s sugges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447920" y="5295960"/>
            <a:ext cx="624816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Learned response that reinforces reductions in anxie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332B-E163-4699-BAF8-7C3ADDD31480}" type="slidenum">
              <a:t>40</a:t>
            </a:fld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1400" y="26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Mood Disor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motional extremes of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mood disorder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come in two principal fo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04840" y="34290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ajor depressive dis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ipolar dis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ACCD-1D4B-4375-BB69-99935982A05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Major Depressive Disor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7360" y="1600200"/>
            <a:ext cx="78008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epression is the “common cold” of psychological disorders. In a year, 5.8% of men and 9.5% of women report depression worldwide (WHO, 200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48320" y="4803840"/>
            <a:ext cx="3886200" cy="8348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hronic shortness of bre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4803840"/>
            <a:ext cx="3886200" cy="8348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Gasping for air after a  hard 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4038480"/>
            <a:ext cx="3886200" cy="6858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0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Major Depressive Dis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4038480"/>
            <a:ext cx="3886200" cy="6858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Blue m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71400" y="4038480"/>
            <a:ext cx="3886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71400" y="5559480"/>
            <a:ext cx="3886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1400" y="403848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443800" y="403848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57600" y="4038480"/>
            <a:ext cx="3886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71400" y="4724280"/>
            <a:ext cx="0" cy="835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443800" y="4724280"/>
            <a:ext cx="0" cy="835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57600" y="5559480"/>
            <a:ext cx="3886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E3F2-D290-4856-A1C6-0A898FE2C38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Major Depressive Disor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ajor depressive disorder occurs when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sign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of depression last two weeks or more and are not caused by drugs or medical condi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133720" y="3886200"/>
            <a:ext cx="55623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Lethargy and fati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Feelings of worthless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Loss of interest in family &amp; fri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Loss of interest in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85960" y="3490920"/>
            <a:ext cx="3741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igns incl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C542-9274-4A4B-BBDF-79A668AAF07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Bipolar Disor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ormerly called manic-depressive disorder. An alternation between depression and mania signals bipolar dis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57600" y="5869080"/>
            <a:ext cx="3886200" cy="455400"/>
          </a:xfrm>
          <a:prstGeom prst="rect">
            <a:avLst/>
          </a:prstGeom>
          <a:solidFill>
            <a:srgbClr val="ff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Multiple i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57600" y="5413320"/>
            <a:ext cx="3886200" cy="455760"/>
          </a:xfrm>
          <a:prstGeom prst="rect">
            <a:avLst/>
          </a:prstGeom>
          <a:solidFill>
            <a:srgbClr val="ff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Hyper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57600" y="4957920"/>
            <a:ext cx="3886200" cy="455400"/>
          </a:xfrm>
          <a:prstGeom prst="rect">
            <a:avLst/>
          </a:prstGeom>
          <a:solidFill>
            <a:srgbClr val="ff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Desire for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57600" y="4438800"/>
            <a:ext cx="3886200" cy="519120"/>
          </a:xfrm>
          <a:prstGeom prst="rect">
            <a:avLst/>
          </a:prstGeom>
          <a:solidFill>
            <a:srgbClr val="ff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Euph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57600" y="3936960"/>
            <a:ext cx="3886200" cy="501840"/>
          </a:xfrm>
          <a:prstGeom prst="rect">
            <a:avLst/>
          </a:prstGeom>
          <a:solidFill>
            <a:srgbClr val="ff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57600" y="3124080"/>
            <a:ext cx="3886200" cy="677880"/>
          </a:xfrm>
          <a:prstGeom prst="rect">
            <a:avLst/>
          </a:prstGeom>
          <a:solidFill>
            <a:srgbClr val="ff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Manic Symp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71400" y="5869080"/>
            <a:ext cx="3886200" cy="4554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lowness of th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71400" y="5413320"/>
            <a:ext cx="3886200" cy="455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71400" y="4957920"/>
            <a:ext cx="3886200" cy="4554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4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Inability to make dec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71400" y="4438800"/>
            <a:ext cx="3886200" cy="519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Withdra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1400" y="3936960"/>
            <a:ext cx="3886200" cy="5018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Glo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71400" y="3124080"/>
            <a:ext cx="3886200" cy="6778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Depressive Symp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71400" y="3200400"/>
            <a:ext cx="3886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71400" y="6265800"/>
            <a:ext cx="3886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71400" y="3200400"/>
            <a:ext cx="0" cy="677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443800" y="3200400"/>
            <a:ext cx="0" cy="677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1400" y="3878280"/>
            <a:ext cx="0" cy="501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443800" y="3878280"/>
            <a:ext cx="0" cy="501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57600" y="3200400"/>
            <a:ext cx="3886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1400" y="4379760"/>
            <a:ext cx="0" cy="519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443800" y="4379760"/>
            <a:ext cx="0" cy="519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1400" y="4898880"/>
            <a:ext cx="0" cy="455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443800" y="4898880"/>
            <a:ext cx="0" cy="455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1400" y="5354640"/>
            <a:ext cx="0" cy="455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443800" y="5354640"/>
            <a:ext cx="0" cy="455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71400" y="5810400"/>
            <a:ext cx="0" cy="455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443800" y="5810400"/>
            <a:ext cx="0" cy="455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557600" y="6265800"/>
            <a:ext cx="3886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8016-7DB5-42C5-AE03-F9880C26ED7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Bipolar Disor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57360" y="1600200"/>
            <a:ext cx="78008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any great writers, poets, and composers suffered from bipolar disorder. During their manic phase creativity surged, but not during their depressed ph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685800" y="3657600"/>
            <a:ext cx="7772400" cy="2470680"/>
            <a:chOff x="685800" y="3657600"/>
            <a:chExt cx="7772400" cy="2470680"/>
          </a:xfrm>
        </p:grpSpPr>
        <p:pic>
          <p:nvPicPr>
            <p:cNvPr id="284" name="" descr=""/>
            <p:cNvPicPr/>
            <p:nvPr/>
          </p:nvPicPr>
          <p:blipFill>
            <a:blip r:embed="rId1"/>
            <a:stretch/>
          </p:blipFill>
          <p:spPr>
            <a:xfrm>
              <a:off x="685800" y="3657600"/>
              <a:ext cx="7772400" cy="21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848880" y="5727600"/>
              <a:ext cx="132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alatino Linotype"/>
                </a:rPr>
                <a:t>Whitm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096360" y="5729400"/>
              <a:ext cx="90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alatino Linotype"/>
                </a:rPr>
                <a:t>Wolf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984200" y="5729400"/>
              <a:ext cx="120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alatino Linotype"/>
                </a:rPr>
                <a:t>Cleme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798600" y="5729400"/>
              <a:ext cx="164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alatino Linotype"/>
                </a:rPr>
                <a:t>Hemingw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 rot="5400000">
            <a:off x="2016720" y="5170680"/>
            <a:ext cx="992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ettmann/ Corb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rot="5400000">
            <a:off x="3293280" y="4681800"/>
            <a:ext cx="231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eorge C. Beresford/ Hulton Getty Pictures Libr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rot="5400000">
            <a:off x="5878080" y="5032800"/>
            <a:ext cx="1270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he Granger Collec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5400000">
            <a:off x="7449480" y="4646880"/>
            <a:ext cx="224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arl Theissen/ Hulton Getty Pictures Libra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9100-9E3F-4CC6-B2C6-71A2C76C4FF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Explaining Mood Disor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140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ince depression is so prevalent worldwide, investigators want to develop a theory of depression that will suggest ways to treat i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71400" y="333864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Lewinsohn et al., (1985, 1998) note that a theory of depression should explain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71600" y="4572000"/>
            <a:ext cx="6372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ehavioral and cognitive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ommon causes of de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325E-7F8F-451B-9A9C-08CAC28B0E0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Theory of De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62120" y="1600200"/>
            <a:ext cx="3976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487440" indent="-48744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Gender dif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447840" y="2927520"/>
            <a:ext cx="8229600" cy="255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0A0A-14D9-4C18-A71F-C1CF0CE5CDD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Theory of De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76320" y="1600200"/>
            <a:ext cx="7710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523800" indent="-52380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epressive episodes self-termin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tressful events often precede depres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epression is increasing, especially in the tee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3508200" y="3200400"/>
            <a:ext cx="2129040" cy="312408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3022560" y="6324480"/>
            <a:ext cx="306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Post-partum de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5400000">
            <a:off x="4875120" y="5313600"/>
            <a:ext cx="176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siree Navarro/ Getty Ima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EC25-B62B-4475-A4F4-FE2B71F5080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Suic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140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most severe form of behavioral response to depression is suicide. Each year some 1 million people commit suicide worldw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33520" y="3214800"/>
            <a:ext cx="4038480" cy="3109680"/>
            <a:chOff x="533520" y="3214800"/>
            <a:chExt cx="4038480" cy="3109680"/>
          </a:xfrm>
        </p:grpSpPr>
        <p:sp>
          <p:nvSpPr>
            <p:cNvPr id="308" name=""/>
            <p:cNvSpPr/>
            <p:nvPr/>
          </p:nvSpPr>
          <p:spPr>
            <a:xfrm>
              <a:off x="533520" y="3657600"/>
              <a:ext cx="4038480" cy="26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marL="578880" indent="-578880">
                <a:lnSpc>
                  <a:spcPct val="120000"/>
                </a:lnSpc>
                <a:buClr>
                  <a:srgbClr val="000000"/>
                </a:buClr>
                <a:buFont typeface="Palatino Linotype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Palatino Linotype"/>
                </a:rPr>
                <a:t>National differenc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8880" indent="-578880">
                <a:lnSpc>
                  <a:spcPct val="120000"/>
                </a:lnSpc>
                <a:buClr>
                  <a:srgbClr val="000000"/>
                </a:buClr>
                <a:buFont typeface="Palatino Linotype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Palatino Linotype"/>
                </a:rPr>
                <a:t>Racial differenc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8880" indent="-578880">
                <a:lnSpc>
                  <a:spcPct val="120000"/>
                </a:lnSpc>
                <a:buClr>
                  <a:srgbClr val="000000"/>
                </a:buClr>
                <a:buFont typeface="Palatino Linotype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Palatino Linotype"/>
                </a:rPr>
                <a:t>Gender differenc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8880" indent="-578880">
                <a:lnSpc>
                  <a:spcPct val="120000"/>
                </a:lnSpc>
                <a:buClr>
                  <a:srgbClr val="000000"/>
                </a:buClr>
                <a:buFont typeface="Palatino Linotype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Palatino Linotype"/>
                </a:rPr>
                <a:t>Age differenc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8880" indent="-578880">
                <a:lnSpc>
                  <a:spcPct val="120000"/>
                </a:lnSpc>
                <a:buClr>
                  <a:srgbClr val="000000"/>
                </a:buClr>
                <a:buFont typeface="Palatino Linotype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Palatino Linotype"/>
                </a:rPr>
                <a:t>Other differenc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057680" y="3214800"/>
              <a:ext cx="299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Palatino Linotype"/>
                </a:rPr>
                <a:t>Suicide Statistic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4572000" y="4202280"/>
            <a:ext cx="4267080" cy="1833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A566-B3E4-4F05-960E-12F7329D3512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590840" y="1218960"/>
            <a:ext cx="59385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Dissociative Dis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issociative Identity Dis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Understanding Dissociative Identity Dis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Mood Dis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ajor Depressive Dis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ipolar Dis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Understanding Mood Dis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797A-8097-4EBC-8A29-10EFAE3D6500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Biological Persp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4772160" y="3503520"/>
            <a:ext cx="3990960" cy="26686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67140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Genetic Influences: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Mood disorders run in families. The rate of depression is higher in identical (50%) than fraternal twins (20%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" y="3505320"/>
            <a:ext cx="40384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Linkage analysis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and </a:t>
            </a: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association studies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link possible genes and dispositions for de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5400000">
            <a:off x="8170200" y="5334480"/>
            <a:ext cx="142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erry Irwin Photograph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E348-09F3-4708-A410-B63D9F0A87E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The Depressed B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61600" y="16002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ET scans show that brain energy consumption rises and falls with manic and depressive episo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914400" y="3352680"/>
            <a:ext cx="7315200" cy="30416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 rot="5400000">
            <a:off x="7395120" y="464040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urtesy of Lewis Baxter an Michael 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helps, UCLA School of Medic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F5DB-ED49-446D-8ADB-73F40456338D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Social-Cognitive Persp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7140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social-cognitive perspective suggests that depression arises partly from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self-defeating belief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and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negative explanatory style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2084400" y="3200400"/>
            <a:ext cx="4973760" cy="331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CAA4-C6D1-429C-AB2C-36B9BD0705E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Negative Thoughts and Moo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98520" y="5791320"/>
            <a:ext cx="8331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423000" indent="-4230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Explanatory style plays a major role in becoming de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2182680" y="1600200"/>
            <a:ext cx="47498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C7A8-C95E-4D75-9627-E9777AD0FED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Depression Cyc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04920" y="1600200"/>
            <a:ext cx="4267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5120" indent="-46512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Negative stressful ev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Pessimistic explanatory sty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Hopeless depressed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lnSpc>
                <a:spcPct val="12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ese hamper the way the individual thinks and acts, fueling personal rej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4052880" cy="279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EA16-C783-497C-889A-7DDA6D23F512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71400" y="276120"/>
            <a:ext cx="77724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Schizophren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71400" y="1418760"/>
            <a:ext cx="7772400" cy="15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literal translation is “split mind” which refers to a split from reality. A group of severe disorders characterized by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19160" y="2971800"/>
            <a:ext cx="528336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isorganized and delusional thin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isturbed percept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appropriate emotions and 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8F78-A608-41B5-8A82-EE39B7D3A102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Symptoms of Schizophre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2133720"/>
            <a:ext cx="7543800" cy="26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Palatino Linotype"/>
              </a:rPr>
              <a:t>Positive symptoms:</a:t>
            </a: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 the presence of inappropriate behaviors (hallucinations, disorganized or delusional talking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Palatino Linotype"/>
              </a:rPr>
              <a:t>Negative symptoms:</a:t>
            </a: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 the absence of appropriate behaviors (expressionless faces, rigid bodie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2C67-1E82-4887-A3FE-DF29908F7012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671400" y="45100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Other forms of delusions include, delusions of persecution (“someone is following me”) or grandeur (“I am a king”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Disorganized &amp; Delusional Thin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71400" y="160020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is morning when I was at Hillside [Hospital], I was making a movie. I was surrounded by movie stars … I’m Mary Poppins. Is this room painted blue to get me upset? My grandmother died four weeks after my eighteenth birthday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847120" y="3429000"/>
            <a:ext cx="24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(Sheehan, 198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71400" y="4529160"/>
            <a:ext cx="77724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is monologue illustrates fragmented, bizarre thinking with distorted beliefs called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delusion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(“I’m Mary Poppins”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2CC9-0496-411F-820E-6D99B1FBA417}" type="slidenum">
              <a:t>57</a:t>
            </a:fld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Disorganized &amp; Delusional Thin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any psychologists believe disorganized thoughts occur because of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selective attention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failure (fragmented and bizarre thought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1DE7-E95F-4745-929C-405D6681BD7A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Disturbed Perce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86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schizophrenic person may perceive things that are not there (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hallucination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). Frequently such hallucinations are auditory and lesser visual, somatosensory, olfactory, or gusta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433520" y="3429000"/>
            <a:ext cx="6248520" cy="29574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 rot="5400000">
            <a:off x="6379200" y="4873680"/>
            <a:ext cx="2800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. Berthold, </a:t>
            </a:r>
            <a:r>
              <a:rPr b="0" i="1" lang="en-US" sz="700" spc="-1" strike="noStrike">
                <a:solidFill>
                  <a:srgbClr val="000000"/>
                </a:solidFill>
                <a:latin typeface="Times New Roman"/>
              </a:rPr>
              <a:t>Untitled.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The Prinzhorn Collection, University of Heidelber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rot="5400000">
            <a:off x="3813120" y="4889160"/>
            <a:ext cx="3097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ugust Natter, </a:t>
            </a:r>
            <a:r>
              <a:rPr b="0" i="1" lang="en-US" sz="700" spc="-1" strike="noStrike">
                <a:solidFill>
                  <a:srgbClr val="000000"/>
                </a:solidFill>
                <a:latin typeface="Times New Roman"/>
              </a:rPr>
              <a:t>Witches Head.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The Prinzhorn Collection, University of Heidelber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rot="5400000">
            <a:off x="-79920" y="4890240"/>
            <a:ext cx="2818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hotos of paintings by Krannert Museum, University of Illinois at Urbana-Champaig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446D-F518-4151-8A5A-1B684879E444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371600" y="914040"/>
            <a:ext cx="6781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Palatino Linotype"/>
              </a:rPr>
              <a:t>Schizophre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ymptoms of Schizophr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Onset and Development of Schizophr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Understanding Schizophr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Palatino Linotype"/>
              </a:rPr>
              <a:t>Personality Dis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ntisocial Personality Dis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Understanding Antisocial Personality Dis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Palatino Linotype"/>
              </a:rPr>
              <a:t>Rates of Psychological Dis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78C9-9A30-4D16-B02F-14575F3EBE8F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Inappropriate Emotions &amp; A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5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schizophrenic person may laugh at the news of someone dying or show no emotion at all (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flat affect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71400" y="4025880"/>
            <a:ext cx="777240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atients with schizophrenia may continually rub an arm, rock a chair, or remain motionless for hours (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catatonia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4EDD-6C75-4DE8-AC62-22F77BD6C1DE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71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Onset and Development of Schizophren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1400" y="20574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Nearly 1 in a 100 suffer from schizophrenia, and throughout the world over 24 million people suffer from this disease (WHO, 200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1400" y="41911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chizophrenia strikes young people as they mature into adults. It affects men and women equally, but men suffer from it more severely than wo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B2A4-DB09-4CCA-9539-641237C5C513}" type="slidenum">
              <a:t>61</a:t>
            </a:fld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hronic and Acute Schizophren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hen schizophrenia is slow to develop (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chronic/proces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) recovery is doubtful. Such schizophrenics usually display negative sympto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71400" y="396252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hen schizophrenia rapidly develops (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acute/reactive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) recovery is better. Such schizophrenics usually show positive sympto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4DEE-2975-4902-9073-6EF861D4D313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Understanding Schizophren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chizophrenia is a disease of the brain exhibited by the symptoms of the m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71400" y="3962520"/>
            <a:ext cx="7772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Dopamine Overactivity: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Researchers found that schizophrenic patients express higher levels of dopamine D4 receptors in the br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34920" y="3419640"/>
            <a:ext cx="363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rain Abnorma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26AE-E3CC-4EB3-800C-9C3351C8ACD2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Abnormal Brain Activ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rain scans show abnormal activity in the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frontal cortex, thalamus,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nd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 amygdala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of schizophrenic patient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1276200" y="3581280"/>
            <a:ext cx="6553440" cy="272592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 rot="5400000">
            <a:off x="6538680" y="4715280"/>
            <a:ext cx="29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aul Thompson and Arthur W. Toga, UCLA Laboratory of Neur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maging and Judith L. Rapport, National Institute of Mental Heal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55AD-72F6-4DB4-8F58-0F7D424039F7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Abnormal Brain Morph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chizophrenia patients may exhibit morphological changes in the brain like enlargement of fluid-filled ventric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928880" y="3200400"/>
            <a:ext cx="5257800" cy="317808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 rot="5400000">
            <a:off x="5884200" y="4507920"/>
            <a:ext cx="2806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oth Photos: Courtesy of Daniel R. Weinberger, M.D., NIH-NIMH/ NS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0B77-D91B-43D6-9677-913ED9D7DC57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Viral Inf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chizophrenia has also been observed in individuals who contracted a viral infection (flu) during the middle of their fetal develop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7A87-948F-4071-A610-9710D5907823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Genetic Fac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likelihood of an individual suffering from schizophrenia is 50% if their identical twin has the disease (Gottesman, 200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190600" y="3230640"/>
            <a:ext cx="5072040" cy="3273840"/>
            <a:chOff x="2190600" y="3230640"/>
            <a:chExt cx="5072040" cy="3273840"/>
          </a:xfrm>
        </p:grpSpPr>
        <p:sp>
          <p:nvSpPr>
            <p:cNvPr id="373" name=""/>
            <p:cNvSpPr/>
            <p:nvPr/>
          </p:nvSpPr>
          <p:spPr>
            <a:xfrm>
              <a:off x="4386240" y="3562200"/>
              <a:ext cx="2657520" cy="308160"/>
            </a:xfrm>
            <a:prstGeom prst="rect">
              <a:avLst/>
            </a:prstGeom>
            <a:solidFill>
              <a:srgbClr val="ffd7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398840" y="3994200"/>
              <a:ext cx="2460960" cy="307800"/>
            </a:xfrm>
            <a:prstGeom prst="rect">
              <a:avLst/>
            </a:prstGeom>
            <a:solidFill>
              <a:srgbClr val="ffd7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212360" y="3230640"/>
              <a:ext cx="305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alatino Linotype"/>
                </a:rPr>
                <a:t>0    10    20    30    40    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119760" y="3595680"/>
              <a:ext cx="124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alatino Linotype"/>
                </a:rPr>
                <a:t>Ident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637000" y="3995640"/>
              <a:ext cx="173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alatino Linotype"/>
                </a:rPr>
                <a:t>Both par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98840" y="4424400"/>
              <a:ext cx="862200" cy="307800"/>
            </a:xfrm>
            <a:prstGeom prst="rect">
              <a:avLst/>
            </a:prstGeom>
            <a:solidFill>
              <a:srgbClr val="ffd7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057120" y="4414680"/>
              <a:ext cx="132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alatino Linotype"/>
                </a:rPr>
                <a:t>Fra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398840" y="4854600"/>
              <a:ext cx="615960" cy="307800"/>
            </a:xfrm>
            <a:prstGeom prst="rect">
              <a:avLst/>
            </a:prstGeom>
            <a:solidFill>
              <a:srgbClr val="ffd7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845800" y="4857840"/>
              <a:ext cx="154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alatino Linotype"/>
                </a:rPr>
                <a:t>One par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403880" y="5286240"/>
              <a:ext cx="425520" cy="308160"/>
            </a:xfrm>
            <a:prstGeom prst="rect">
              <a:avLst/>
            </a:prstGeom>
            <a:solidFill>
              <a:srgbClr val="ffd7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37200" y="5276880"/>
              <a:ext cx="101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alatino Linotype"/>
                </a:rPr>
                <a:t>Sibl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00640" y="5716440"/>
              <a:ext cx="244440" cy="308160"/>
            </a:xfrm>
            <a:prstGeom prst="rect">
              <a:avLst/>
            </a:prstGeom>
            <a:solidFill>
              <a:srgbClr val="ffd7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190600" y="5707080"/>
              <a:ext cx="222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alatino Linotype"/>
                </a:rPr>
                <a:t>Nephew or nie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00640" y="6119640"/>
              <a:ext cx="60120" cy="306720"/>
            </a:xfrm>
            <a:prstGeom prst="rect">
              <a:avLst/>
            </a:prstGeom>
            <a:solidFill>
              <a:srgbClr val="ffd7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86200" y="6105600"/>
              <a:ext cx="138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alatino Linotype"/>
                </a:rPr>
                <a:t>Unre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8291-535A-401B-B979-B012B73E410E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Genetic Fac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following shows the prevalence of schizophrenia in identical twins as seen in different count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1204920" y="3200400"/>
            <a:ext cx="6705720" cy="324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0E8F-1861-4CE4-909F-B1C6375307BE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sychological Fac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sychological and environmental factors can trigger schizophrenia if the individual is genetically predisposed (Nicol &amp; Gottesman, 1983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900000" y="3463920"/>
            <a:ext cx="3291120" cy="28414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1596960" y="6308640"/>
            <a:ext cx="191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Genain Si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419720" y="3463920"/>
            <a:ext cx="4495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e genetically identical Gen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isters suffer from schizophrenia. Two more than others, thus there are contributing environmental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5400000">
            <a:off x="3587040" y="5477400"/>
            <a:ext cx="14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urtesy of Genain Famil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DD22-18C6-4574-8FFE-D78C00163356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sychological Disor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I felt the need to clean my room … would spend four to five hours at it… At the time I loved doing it. Then I didn't want to do it any more, but I couldn’t stop… The clothes hung… two fingers apart… I touched my bedroom wall before leaving the house… I had constant anxiety… I thought I might be nu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403848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Marc, diagnosed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obsessive-compulsive dis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(from Summers, 199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DCBA-57E5-4298-89F4-ABE51E1378C2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ersonality Disor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7560" y="16002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ersonality disorders are characterized by inflexible and enduring behavior patterns that impair social functioning. They are usually without anxiety, depression, or delu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5160960" y="1600200"/>
            <a:ext cx="32828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043A-9293-4461-AEAD-227BC79C4B4A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Antisocial Personality Disor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disorder in which the person (usually men) exhibits a lack of conscience for wrongdoing, even toward friends and family members. Formerly, this person was called a 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sociopath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psychopa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0DE1-1A9B-41F9-A87D-44F5C90793F9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Understanding Antisocial Personality Disor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Like mood disorders and schizophrenia, antisocial personality disorder has biological and psychological reasons. Youngsters, before committing a crime, respond with lower levels of stress hormones than others do at their 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4648320" y="1913040"/>
            <a:ext cx="4114800" cy="403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A84A-87DE-4FBE-99DF-8E17E259AFDB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Understanding Antisocial Personality Disor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ET scans of 41 murderers revealed reduced activity in the frontal lobes. In a follow-up study, repeat offenders had 11% less frontal lobe activity (Raine et al., 1999; 200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1866960" y="3720960"/>
            <a:ext cx="5376960" cy="27972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2604240" y="645624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64000" y="646128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rde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rot="5400000">
            <a:off x="6493680" y="5370480"/>
            <a:ext cx="1895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urtesy of Adrian Raine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niversity of Southern Califor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1AE7-511B-4FF9-8341-A13B551E7816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Rates of Psychological Dis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1585800" y="1523880"/>
            <a:ext cx="5943600" cy="465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C4E6-ED11-4DD8-8F72-ABC0BF99AF31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Rates of Psychological Dis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04760" y="2838600"/>
            <a:ext cx="7115400" cy="358128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442800" y="1600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prevalence of psychological disorders during the previous year is shown below (WHO, 2004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1841-EA8F-4C0C-AF8D-0BA0D8829EF7}" type="slidenum">
              <a:t>75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sychological Disor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eople are fascinated by the exceptional, the unusual, and the abnormal. This fascination may be caused by two reas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1400" y="3505320"/>
            <a:ext cx="77724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During various moments we feel, think, and act like an abnormal individ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Psychological disorders may bring unexplained physical symptoms, irrational fears, and suicidal thou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E5A5-B6A8-43AA-9DCF-5E7E5EB5784F}" type="slidenum">
              <a:t>8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sychological Disor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1400" y="1599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o study the abnormal is the best way of understanding the norm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1400" y="3505320"/>
            <a:ext cx="77724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ere are 450 million people suffering from psychological disorders (WHO, 2004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Depression and schizophrenia exist in all cultures of the wor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257184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William James (1842-19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4CB8-4808-4E49-A734-94446DB6B1A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5T00:32:17Z</dcterms:created>
  <dc:creator>HSU </dc:creator>
  <dc:description/>
  <dc:language>en-US</dc:language>
  <cp:lastModifiedBy>Ptwickler</cp:lastModifiedBy>
  <dcterms:modified xsi:type="dcterms:W3CDTF">2009-04-03T16:03:02Z</dcterms:modified>
  <cp:revision>1256</cp:revision>
  <dc:subject/>
  <dc:title>Memory</dc:title>
</cp:coreProperties>
</file>